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B3D-C9DF-44DA-8837-31F3F5C2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DDF-C4EF-4FDE-9C18-320E890D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691-2E1C-4280-9880-18611900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C084-D5E8-465A-8D3C-4034D8F8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3025-CC35-4E16-B279-F2613429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295B-5406-4D4A-A368-F83FE184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7FBE-D88A-4CE5-976F-1AE8BF4B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2866-671F-438C-8824-3BF977CA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EE5A-9138-4EFD-95E0-BEE04B66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C4C3-3FCD-4873-B5FD-CBAF69EA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6669-B2E7-48CD-AD44-7178E117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BB2-0E9C-4D62-B3EA-FC89740B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723F-4B2A-4CFA-8023-3171D049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2AA2-A50C-4BDB-92CE-4130D4D5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32B8-1D4B-4F7A-9220-C319B51D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BC58-A648-46AA-8FC3-33B883E5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FA70-C60E-47C5-AE79-A4190889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4F6-7D0C-44F5-9F11-FF8423BE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47D-2CDB-4F02-8F0C-ECB4D202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A35-4999-4639-BE7F-9854D0B3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E2F-AAF0-40B0-B068-AA434FFB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134-CEAE-43E2-A87B-A95BAC17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9C1-5B53-47A7-8C67-AB948E85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F62-59BC-41D3-8D23-F6BEBF14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39CE-B6B6-4C19-BA8C-DB2013686E4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B0BE-EC77-4C3C-862A-D72E1714FEC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Vocabular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: Chris and Adri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cent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s of a hundr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e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y number used to get the sum or tot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hole number that divides exaclty into another num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whole that multiplies with another number to make a third num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a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y part of a group number or who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cen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ranged from smallest to larg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scen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ranged from largest to small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20:37:20Z</dcterms:created>
  <dc:creator>christopher.bennett</dc:creator>
  <dc:description/>
  <dc:language>en-US</dc:language>
  <cp:lastModifiedBy>christopher.bennett</cp:lastModifiedBy>
  <dcterms:modified xsi:type="dcterms:W3CDTF">2010-11-23T20:52:30Z</dcterms:modified>
  <cp:revision>2</cp:revision>
  <dc:subject/>
  <dc:title>Vocabulary</dc:title>
</cp:coreProperties>
</file>